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AB0A-8AA7-4435-9894-E9BA5C678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DF923-2C7D-4451-A176-8285FEFB9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278E-71EE-42FD-9EF1-BEB5E8C9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A9062-1C70-4F59-AEDB-3E628AD20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888D3-4FAB-4E79-9890-26D54164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A020-C1AA-47FA-B169-E8E53E622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430C-309D-42A1-AD8D-3DEA81D58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FEA1B-1787-464C-8880-516D0978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291A-BCE3-45DD-95C9-B529EAAD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D6F48-AB55-411B-94D8-C23210F6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40F6-E755-444E-8C72-0451C0B1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FC6D-04EC-4B2D-9010-7D03BDE9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E353-C662-49EE-8905-4C1F8EE87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30A1-6AF6-4EA8-BC7D-5D4C982FE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ichael Pauling</cp:lastModifiedBy>
  <dcterms:modified xsi:type="dcterms:W3CDTF">2008-08-25T19:27:54Z</dcterms:modified>
  <cp:revision>120</cp:revision>
  <dc:subject/>
  <dc:title>Wikispaces for Teachers A guide to using them in your classroom</dc:title>
</cp:coreProperties>
</file>